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CB1AA-9E1B-4F2A-8302-97BBB98F880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A89EF-08E8-4DB8-BC1E-E5E906470CE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ABFFC-7DBB-4602-90D7-7B9F0CCF4D5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74CDFE-5BCC-4DCF-8DBF-3987B0FE4C09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F94B8-46EA-4C2B-97EA-1FBB3A863C3A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DD4DE-9583-4D31-87B9-1002DD25D58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B68B9-8F98-47B2-B633-8B87F24421CF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4648E-5216-4D0C-8362-14BD689A1C52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F0E6C-AA2C-4231-A43B-5083D4B05D8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42B28-48D8-4AC6-AEBB-4D0A83594A37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BEF26-779A-437F-9B0E-3CF1CBDE9CF4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AC0D3-C8AF-4ACA-88A5-733C32538AD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92828F-61F1-4757-986F-4A17D9BF01C6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98C9D5-A2E3-4F10-A980-36AB214E4B51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462C2E-600D-4395-AFF9-6A48C159A2CD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FB101-1ABF-46BF-B70B-412234BBB733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921B1-B3D6-41E4-93CE-ACC05AEEBA98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FC064-D147-4208-9852-596B4477D2D5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E2F6-FD80-47CF-B1E3-7259CD7FC3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858C-EA14-4443-B3F7-D7AB8F11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A1D47-BE1A-4E63-9C6E-11A8CAEA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5F0F-5658-4345-9430-D230EC267B1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E4A3A-5A3E-46C0-9AC8-0EFD11691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33AB2-10C9-408E-832E-54A58403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4AB37-3279-459B-9016-B2FD0D0F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5874C-9262-46FA-906F-26123F23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312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9D1E-4B9A-487A-ABBF-ED0E360C4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285D0-7F47-4700-B8C4-352D90E1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5501B-B6CA-4F57-9FF5-2F53BD3D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2745-E7D2-473C-8B4D-6CBABE38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800" spc="-1" strike="noStrike">
                <a:solidFill>
                  <a:srgbClr val="000000"/>
                </a:solidFill>
                <a:latin typeface="Gill Sans MT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56E23-2AC8-4AE5-84E2-F50219885A50}" type="slidenum">
              <a:rPr b="0" lang="it-IT" sz="1800" spc="-1" strike="noStrike">
                <a:solidFill>
                  <a:srgbClr val="000000"/>
                </a:solidFill>
                <a:latin typeface="Gill Sans MT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"/>
          <p:cNvSpPr/>
          <p:nvPr/>
        </p:nvSpPr>
        <p:spPr>
          <a:xfrm>
            <a:off x="1743120" y="2192400"/>
            <a:ext cx="54291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741240" indent="-280800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SCUOLA E CYBERBULLISMO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41240"/>
                <a:tab algn="l" pos="1189080"/>
                <a:tab algn="l" pos="1638360"/>
                <a:tab algn="l" pos="2087640"/>
                <a:tab algn="l" pos="2536920"/>
                <a:tab algn="l" pos="2986200"/>
                <a:tab algn="l" pos="3435480"/>
                <a:tab algn="l" pos="3884760"/>
                <a:tab algn="l" pos="4334040"/>
                <a:tab algn="l" pos="4782960"/>
                <a:tab algn="l" pos="5232240"/>
                <a:tab algn="l" pos="5681520"/>
                <a:tab algn="l" pos="6130800"/>
                <a:tab algn="l" pos="6580080"/>
                <a:tab algn="l" pos="7029360"/>
                <a:tab algn="l" pos="7478640"/>
                <a:tab algn="l" pos="7927920"/>
                <a:tab algn="l" pos="8377200"/>
                <a:tab algn="l" pos="8826480"/>
                <a:tab algn="l" pos="9275760"/>
                <a:tab algn="l" pos="972504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 modello di governanc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1079640" y="5975280"/>
            <a:ext cx="3436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71280" y="431640"/>
            <a:ext cx="9110880" cy="77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UNIZIONE PER IL CYBERBULLISM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amministrativa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MMONIMEN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rocedura prevista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per “minorenni di età superiore agli anni quattrordici, quando commettono il fatto nei confronti di un altro minorenne”.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ino a quando non è proposta querela per il reato di cui all'art. 612 bis del codi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 penale (atti persecutori) la persona offesa può esporre i fatti all'autorità  di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ubblica sicurezza avanzando richiesta al questore di ammonimento nei confronti dell'autore della condotta. La richiesta è trasmessa senza ritardo al questore”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questore, assunte se necessario informazioni dagli organi investigativi 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tite le persone informate dei fatti, ove ritenga fondata l'istanza, ammonisce oralmente il soggetto nei cui confronti è stato richiesto il provvedimento, invitan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lo a tenere una condotta conforme alla legge e redigendo processo verbale. 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pia del processo verbale è rilasciata al richiedente l'ammonimento e al soggetto ammonito….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missis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art.8,c. 1 e 2 L.38/2009)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estione aper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il fenomeno riguarda anche minorenni di età inferior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gli anni quattordici ma la norma nulla prevede per questi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287280" y="503280"/>
            <a:ext cx="849636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2732040" y="3311640"/>
            <a:ext cx="3316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RIGENTE SCOLASTIC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0" y="792000"/>
            <a:ext cx="4680000" cy="244800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finizione linee di indirizzo del Ptof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del Patto di corresponsabilità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ducativa che contemplin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sure dedicate all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nzione d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yberbullism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5" name="Oval 4"/>
          <p:cNvSpPr/>
          <p:nvPr/>
        </p:nvSpPr>
        <p:spPr>
          <a:xfrm>
            <a:off x="4751280" y="792000"/>
            <a:ext cx="4176720" cy="223236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ssima informazione all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miglia di tutte le attività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iniziative intrapres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sito web, altro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2952720" y="3676680"/>
            <a:ext cx="5111640" cy="28033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se con i servizi territoriali della salute,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rvizi sociali, forze dell'ordine, serviz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norili dell'amministrazione dell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ustizi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216000" y="640872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3887640" y="1008000"/>
            <a:ext cx="1805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3959280" y="3600360"/>
            <a:ext cx="1377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FERENT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216000" y="1440000"/>
            <a:ext cx="4248000" cy="237636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4680000" y="1368360"/>
            <a:ext cx="4103640" cy="2376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pporto al DS per revisione/stesur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regolamenti, atti e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cumen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0" y="3887640"/>
            <a:ext cx="4392720" cy="244800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ccoglie e diffonde buone pratich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ducative, organizzative e d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nitoraggio, favorend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'elaborazione di un modello d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-policy di istitut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4824360" y="3959280"/>
            <a:ext cx="4032360" cy="244800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involge gli altri sogget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scuola, con particolar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enzione agli studenti/ex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udenti (peer education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720720" y="1871640"/>
            <a:ext cx="35528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ordina iniziative di prevenzione e contrasto al cyberbullismo con collaborazione delle forze di polizia, associazioni e CAG presenti sul territori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44360" y="653724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287280" y="863640"/>
            <a:ext cx="885672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. 1 L.71/2017 comma 2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Le definizioni sono tratte dal dizionario Treccani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alsiasi forma di press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azione o serie di azioni con le quali si cerca di influire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ulla volontà altrui per ottenere qualche cosa (a cui s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bbia o no diritto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ggress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azione violenta di una o più persone nei confronti di altre persone, ch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ò racchiudere gli elementi costitutivi di diverse figure di reato, a se-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da del modo e dei mezzi con cui viene esercitata, dell'evento veri-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icatosi o del fine cui è dirett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olest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Sensazione incresciosa di pena, di tormento, di incomodo, di disagio, d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rritazione, provocata da persone o cose e in genere da tutto ciò che produ-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 un turbamento del benessere fisico o della tranquillità spiritua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cat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si ipotizzano richieste di prestazioni sessuali o di condotte percepite com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sagio dalla vittima. Da considerare che nel C.P. non esiste, il riferimento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l'estorsione art. 629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216000" y="431640"/>
            <a:ext cx="8856720" cy="63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. 1 L.71/2017 comma 2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quisizione illecit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nipolazion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rattamento illecito di dati personal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DANNO DI MINOREN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: vittime della condotta specifiche, caratterizzate dall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tà giovanile, che le rende particolarmente fragil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ALIZZATA PER VIA TELEMAT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: in ciò consiste la specificità della condotta 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a Sua distinzione rispetto agli atti di bullism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onché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usione di contenuti on line aventi ad oggetto anche uno o più componenti dell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amiglia del minor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956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216000" y="640872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216000" y="863640"/>
            <a:ext cx="885672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. 1 L.71/2017 comma 2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L CUI SCOPO INTENZIONALE E PREDOMINANT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just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Oval 2"/>
          <p:cNvSpPr/>
          <p:nvPr/>
        </p:nvSpPr>
        <p:spPr>
          <a:xfrm>
            <a:off x="576360" y="2922480"/>
            <a:ext cx="1655640" cy="82080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olo specific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1" name="Oval 3"/>
          <p:cNvSpPr/>
          <p:nvPr/>
        </p:nvSpPr>
        <p:spPr>
          <a:xfrm>
            <a:off x="4680000" y="2665440"/>
            <a:ext cx="3600360" cy="12952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rmine non del C.P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serito per limitare il più possibi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'ambito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31640" y="4176720"/>
            <a:ext cx="4864320" cy="20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Sia quello d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SOLARE UN MINORE O UN GRUPPO DI MINOR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nendo in atto un serio abus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attacco dannos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 la loro messa in ridicol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Oval 5"/>
          <p:cNvSpPr/>
          <p:nvPr/>
        </p:nvSpPr>
        <p:spPr>
          <a:xfrm>
            <a:off x="5111640" y="4751280"/>
            <a:ext cx="3527640" cy="203040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portamenti tipicizzati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identificare in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creto in riferimento ad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o di questi comportamen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4680000" y="2232000"/>
            <a:ext cx="576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Line 7"/>
          <p:cNvSpPr/>
          <p:nvPr/>
        </p:nvSpPr>
        <p:spPr>
          <a:xfrm flipH="1">
            <a:off x="1581120" y="2232000"/>
            <a:ext cx="2937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224000" y="2232000"/>
            <a:ext cx="287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360360" y="640872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936720" y="792000"/>
            <a:ext cx="7974000" cy="58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OSTRO LAVORO LABORATORIA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disporre la parte del regolamento di istituto e la relativa tabella di sanzion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sciplinar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disporre l'adeguamento del patto di corresponsabilità educativ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sottoporre a: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ENITO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regolamento di istituto è competenza del C.I. dove tutti gli attori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scuola sono rappresentati: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nitori, docenti, Ata, il dirigente scolastico e – nelle scuole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econdarie di 2° grado – studenti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TUD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quanto più vengono coinvolti, tanto più si attivano e coinvolgon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 pari (circolo virtuoso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sempre a contatto con gli studenti, soprattutto i collaboratori scolastic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OCE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tutti, non solo quelli del C.I., per opera di sensibilizzazione, inform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zione e anche sdrammatizzazion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2160720" y="576360"/>
            <a:ext cx="8207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Text Box 2"/>
          <p:cNvSpPr/>
          <p:nvPr/>
        </p:nvSpPr>
        <p:spPr>
          <a:xfrm>
            <a:off x="216000" y="1368360"/>
            <a:ext cx="87836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finizione di reat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ATTO FORMALMENTE PREVISTO DA UNA LEGGE PENALE DELLO STATO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trattato dall'autorità giudiziaria penale (P.M. e Giudice) avvalendosi dei soggetti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dei mezzi della procedura penale: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izia giudiziari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dice pena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dice di procedura pena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 fine di accertare la commissione di reati, individuarne gli autori, trarne le conseguenz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720720" y="633564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2087640" y="93672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Illecito e reato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(fatto illecito previsto e punito dalla legge penale art.1 c.p: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nullum crimen, nulla poena sine lege)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2087640" y="2664000"/>
            <a:ext cx="2089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venzione primaria/genera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zioni volte ad educare alla non commissione di illeci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a scuola formazione e sensibilizzazione su tem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180040" y="2664000"/>
            <a:ext cx="237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venzion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econdaria/specia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zioni volte ad evitare la ripetizione di reati dopo una prima commission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ella scuola: illeciti disciplinari: sanzione e motivazione al cambiament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Line 4"/>
          <p:cNvSpPr/>
          <p:nvPr/>
        </p:nvSpPr>
        <p:spPr>
          <a:xfrm flipH="1">
            <a:off x="3021120" y="1295280"/>
            <a:ext cx="79848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Line 5"/>
          <p:cNvSpPr/>
          <p:nvPr/>
        </p:nvSpPr>
        <p:spPr>
          <a:xfrm>
            <a:off x="3816360" y="1295280"/>
            <a:ext cx="208764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47640" y="633564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2841480" y="836640"/>
            <a:ext cx="41569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Legge 71/2017: cyberbullismo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remessa: distinzione tra</a:t>
            </a: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2050920" y="306864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2050920" y="450864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70000" y="2664000"/>
            <a:ext cx="4194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YBERBULLIN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tra minorenn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664000" y="3456000"/>
            <a:ext cx="30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216000" y="4098960"/>
            <a:ext cx="8261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YBERHARASSMEN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yber molestia tra adulti o tra un adulto e un minorenn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03280" y="6264360"/>
            <a:ext cx="23241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144360" y="576360"/>
            <a:ext cx="8856720" cy="66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Gill Sans MT"/>
              </a:rPr>
              <a:t>                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Legge n.71/2017: cyberbullismo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IPIZZ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individuazione dei comportamenti illeciti (eventualmente                                                reati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REVEN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art.3,c.2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iano di azione integr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Tavolo tecnico per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enzione e contrasto: indicazione Ministeri coinvolti;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3,c.3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dice di co-regolament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prevenzione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contrasto per gli operatori della rete internet;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4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iur linee di orientamen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prevenzione e contrasto nell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716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Microsoft YaHei"/>
              </a:rPr>
              <a:t>scuola (previsto aggiornamento biennale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AutoShape 2"/>
          <p:cNvSpPr/>
          <p:nvPr/>
        </p:nvSpPr>
        <p:spPr>
          <a:xfrm flipV="1">
            <a:off x="144360" y="3097080"/>
            <a:ext cx="50328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2" name="AutoShape 3"/>
          <p:cNvSpPr/>
          <p:nvPr/>
        </p:nvSpPr>
        <p:spPr>
          <a:xfrm flipV="1">
            <a:off x="144360" y="1424880"/>
            <a:ext cx="43200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60360" y="604836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216000" y="863640"/>
            <a:ext cx="871200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1828800" algn="ctr">
              <a:lnSpc>
                <a:spcPct val="100000"/>
              </a:lnSpc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INEE DI ORIENTAMENTO M.I.U.R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828800" algn="ctr">
              <a:lnSpc>
                <a:spcPct val="100000"/>
              </a:lnSpc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x art. 4  L.71/2017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828800" algn="ctr">
              <a:lnSpc>
                <a:spcPct val="100000"/>
              </a:lnSpc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828800" algn="just"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marL="1828800">
              <a:tabLst>
                <a:tab algn="l" pos="0"/>
                <a:tab algn="l" pos="1828800"/>
                <a:tab algn="l" pos="2276640"/>
                <a:tab algn="l" pos="2725560"/>
                <a:tab algn="l" pos="3174840"/>
                <a:tab algn="l" pos="3624120"/>
                <a:tab algn="l" pos="4073400"/>
                <a:tab algn="l" pos="4522680"/>
                <a:tab algn="l" pos="4971960"/>
                <a:tab algn="l" pos="5421240"/>
                <a:tab algn="l" pos="5870520"/>
                <a:tab algn="l" pos="6319800"/>
                <a:tab algn="l" pos="6769080"/>
                <a:tab algn="l" pos="7218360"/>
                <a:tab algn="l" pos="7667640"/>
                <a:tab algn="l" pos="8116920"/>
                <a:tab algn="l" pos="8566200"/>
                <a:tab algn="l" pos="9015480"/>
                <a:tab algn="l" pos="9464760"/>
                <a:tab algn="l" pos="9914040"/>
                <a:tab algn="l" pos="10363320"/>
                <a:tab algn="l" pos="108126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45960" y="1944720"/>
            <a:ext cx="672156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mazione del personale scolastico (referenti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omozione di ruolo attivo degli studen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involgimento di ex studenti già peer educators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SURE DI SOSTEGNO         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visione di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SURE DI RIEDUCAZION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fficace sistema di governance Miur: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individuazione di un referente per istituto sco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promozione di bandi per finanziamento proget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reti di scuole da parte degli UU.SS.RR.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6696000" y="4176720"/>
            <a:ext cx="2055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i minori coinvo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l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Line 4"/>
          <p:cNvSpPr/>
          <p:nvPr/>
        </p:nvSpPr>
        <p:spPr>
          <a:xfrm>
            <a:off x="5904000" y="4032360"/>
            <a:ext cx="79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Line 5"/>
          <p:cNvSpPr/>
          <p:nvPr/>
        </p:nvSpPr>
        <p:spPr>
          <a:xfrm flipV="1">
            <a:off x="6264360" y="4385880"/>
            <a:ext cx="431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503280" y="2089080"/>
            <a:ext cx="431640" cy="71640"/>
          </a:xfrm>
          <a:prstGeom prst="rightArrow">
            <a:avLst>
              <a:gd name="adj1" fmla="val 50000"/>
              <a:gd name="adj2" fmla="val 150628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0" name="AutoShape 7"/>
          <p:cNvSpPr/>
          <p:nvPr/>
        </p:nvSpPr>
        <p:spPr>
          <a:xfrm>
            <a:off x="431640" y="2592360"/>
            <a:ext cx="432000" cy="71640"/>
          </a:xfrm>
          <a:prstGeom prst="rightArrow">
            <a:avLst>
              <a:gd name="adj1" fmla="val 50000"/>
              <a:gd name="adj2" fmla="val 150754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AutoShape 8"/>
          <p:cNvSpPr/>
          <p:nvPr/>
        </p:nvSpPr>
        <p:spPr>
          <a:xfrm>
            <a:off x="433440" y="3168720"/>
            <a:ext cx="503280" cy="71280"/>
          </a:xfrm>
          <a:prstGeom prst="rightArrow">
            <a:avLst>
              <a:gd name="adj1" fmla="val 50000"/>
              <a:gd name="adj2" fmla="val 176515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360360" y="5111640"/>
            <a:ext cx="576360" cy="71640"/>
          </a:xfrm>
          <a:prstGeom prst="rightArrow">
            <a:avLst>
              <a:gd name="adj1" fmla="val 100000"/>
              <a:gd name="adj2" fmla="val 98517"/>
            </a:avLst>
          </a:prstGeom>
          <a:solidFill>
            <a:srgbClr val="729fcf"/>
          </a:solidFill>
          <a:ln w="9360">
            <a:solidFill>
              <a:srgbClr val="3465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Line 10"/>
          <p:cNvSpPr/>
          <p:nvPr/>
        </p:nvSpPr>
        <p:spPr>
          <a:xfrm flipV="1">
            <a:off x="1728720" y="4102200"/>
            <a:ext cx="1295640" cy="29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Line 11"/>
          <p:cNvSpPr/>
          <p:nvPr/>
        </p:nvSpPr>
        <p:spPr>
          <a:xfrm>
            <a:off x="1728720" y="4392720"/>
            <a:ext cx="1295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216000" y="633564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0" y="936720"/>
            <a:ext cx="89996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NZIONI DEL REFERENTE del cyberbullismo nelle scuo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ORDINAMEN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ZIONI DI PREVENZIONE E CONTRAST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LLABOR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N ALTRI SOGGET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Oval 2"/>
          <p:cNvSpPr/>
          <p:nvPr/>
        </p:nvSpPr>
        <p:spPr>
          <a:xfrm flipV="1" rot="10920000">
            <a:off x="5322960" y="1872720"/>
            <a:ext cx="2541600" cy="16034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668920" y="2014560"/>
            <a:ext cx="18907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iste un fenomeno e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revedo le azioni per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rmene carico</a:t>
            </a:r>
            <a:endParaRPr b="0" lang="en-US" sz="1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Oval 4"/>
          <p:cNvSpPr/>
          <p:nvPr/>
        </p:nvSpPr>
        <p:spPr>
          <a:xfrm>
            <a:off x="71280" y="3311640"/>
            <a:ext cx="2417760" cy="21319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ze di polizia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.C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dF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.S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lizia local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cc..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Oval 5"/>
          <p:cNvSpPr/>
          <p:nvPr/>
        </p:nvSpPr>
        <p:spPr>
          <a:xfrm>
            <a:off x="2852640" y="3584520"/>
            <a:ext cx="1871640" cy="180036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ssociazion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Oval 6"/>
          <p:cNvSpPr/>
          <p:nvPr/>
        </p:nvSpPr>
        <p:spPr>
          <a:xfrm>
            <a:off x="6048360" y="3672000"/>
            <a:ext cx="2448000" cy="187164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entri di aggregazion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ovanile del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rritori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31640" y="633564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31640" y="863640"/>
            <a:ext cx="8496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UNIZIONE. Art. 5 legge 71/2017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alvo che il fatto costituisca reato...”: quale reato? Uno di quelli che potrebbero rientrare nella categoria generalizzata dall'art. 1.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.S.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FORMA TEMPESTIVAMENTE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= non frappone tempo, non assume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eggiamenti di attes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HI?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 soggetti esercenti la responsabilità genitoriale o i tutori dei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INORI COINVOLT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5111640" y="3384720"/>
            <a:ext cx="27036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Autore del cyberbullism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Vittima del cyberbullism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Line 3"/>
          <p:cNvSpPr/>
          <p:nvPr/>
        </p:nvSpPr>
        <p:spPr>
          <a:xfrm flipV="1">
            <a:off x="3959280" y="3593880"/>
            <a:ext cx="11523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6" name="Line 4"/>
          <p:cNvSpPr/>
          <p:nvPr/>
        </p:nvSpPr>
        <p:spPr>
          <a:xfrm>
            <a:off x="3959280" y="3816360"/>
            <a:ext cx="1152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152360" y="5040360"/>
            <a:ext cx="5438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ATTIVA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 adeguate </a:t>
            </a: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AZIONI 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di </a:t>
            </a: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CARATTERE</a:t>
            </a:r>
            <a:r>
              <a:rPr b="0" lang="it-IT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Gill Sans MT"/>
              </a:rPr>
              <a:t>EDUCATIV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8" name="Oval 6"/>
          <p:cNvSpPr/>
          <p:nvPr/>
        </p:nvSpPr>
        <p:spPr>
          <a:xfrm>
            <a:off x="1079640" y="4680000"/>
            <a:ext cx="5903640" cy="12952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TTIV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deguat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ZIO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ARATTERE EDUCATIV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287280" y="633564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503280" y="647640"/>
            <a:ext cx="181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Oval 2"/>
          <p:cNvSpPr/>
          <p:nvPr/>
        </p:nvSpPr>
        <p:spPr>
          <a:xfrm>
            <a:off x="216000" y="503280"/>
            <a:ext cx="4103640" cy="129528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golamento di istituto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4896000" y="576360"/>
            <a:ext cx="4032000" cy="122400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atto di corresponsabilità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ducativ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3743280" y="1655640"/>
            <a:ext cx="43200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4528800" y="1655640"/>
            <a:ext cx="9493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311640" y="2664000"/>
            <a:ext cx="2776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DEGUAMENTO con inserimento di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71280" y="3887640"/>
            <a:ext cx="4319640" cy="165600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FERIMENTO A CONDOTTE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 CYBERBULLISMO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7" name="Oval 8"/>
          <p:cNvSpPr/>
          <p:nvPr/>
        </p:nvSpPr>
        <p:spPr>
          <a:xfrm>
            <a:off x="3816360" y="3456000"/>
            <a:ext cx="5327640" cy="280836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ANZIONI DISCIPLINARI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MISURATE ALLA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RAVITA' DEGLI ATTI 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PIUTI (in chiave di giustizia riparativa)</a:t>
            </a: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Line 9"/>
          <p:cNvSpPr/>
          <p:nvPr/>
        </p:nvSpPr>
        <p:spPr>
          <a:xfrm flipH="1">
            <a:off x="2658600" y="3363840"/>
            <a:ext cx="801720" cy="45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4967280" y="3363840"/>
            <a:ext cx="64764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287280" y="6408720"/>
            <a:ext cx="236700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Gill Sans MT"/>
              </a:rPr>
              <a:t>Paola Alberti 27 novembre 2017</a:t>
            </a:r>
            <a:endParaRPr b="0" lang="en-US" sz="12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3T13:33:10Z</dcterms:created>
  <dc:creator>Dirigente</dc:creator>
  <dc:description/>
  <dc:language>en-US</dc:language>
  <cp:lastModifiedBy>Monica Ducoli</cp:lastModifiedBy>
  <dcterms:modified xsi:type="dcterms:W3CDTF">2018-01-06T18:16:31Z</dcterms:modified>
  <cp:revision>80</cp:revision>
  <dc:subject/>
  <dc:title>Diapositiva 1</dc:title>
</cp:coreProperties>
</file>